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54998"/>
        <c:axId val="69028623"/>
      </c:barChart>
      <c:catAx>
        <c:axId val="1965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8623"/>
        <c:crosses val="autoZero"/>
        <c:auto val="1"/>
        <c:lblAlgn val="ctr"/>
        <c:lblOffset val="100"/>
        <c:noMultiLvlLbl val="0"/>
      </c:catAx>
      <c:valAx>
        <c:axId val="69028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CFC-9D96-4772-B4AF-65D31109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395-65E3-4F23-9AEC-16BA3C0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8AD-B3C3-4B3C-A528-4B8272E5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D43-389E-49B7-9BCC-B428F258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540-1A03-48DE-8736-8EA117B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AC1-FD74-499B-BCEA-89A0ABCF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F44-6DB2-4F0C-904C-C591A5E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D66-853B-4330-92A2-4476D62C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614-AE96-4410-B70B-700690BE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178-7403-4409-BB03-0F6FB1FC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35D-3E13-4459-BC7D-BDF00A3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071-8EFF-4818-9214-A130E84E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C6650-A4D0-435A-B7E2-2DF66F346E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