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822715"/>
        <c:axId val="50781480"/>
      </c:barChart>
      <c:catAx>
        <c:axId val="108227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781480"/>
        <c:crosses val="autoZero"/>
        <c:auto val="1"/>
        <c:lblAlgn val="ctr"/>
        <c:lblOffset val="100"/>
        <c:noMultiLvlLbl val="0"/>
      </c:catAx>
      <c:valAx>
        <c:axId val="507814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8227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AD5A-99F2-40DC-8690-59AFEB7F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BE4E-D89C-4E3A-AE31-FA4C2FCCD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D32F-2039-4AC7-922F-03DDDF7C7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7F96-91B3-4012-9609-30A524754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873A-7FAA-4942-928E-7A1F98C1A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4F39-E8D8-44AC-9010-EAFB1D984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A914-C0AC-4457-A251-1EB9E8B22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C8B-AC45-40DA-A724-AA5BC860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82FD-2CB1-4CE4-B1C8-25D23B9E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4EEEF-B016-4E0A-8D6D-10EA963AD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A4D1-CE49-4AAB-986B-C0F6BDBEB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7638-C641-492D-AE73-988182ED4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B1BD7C-5222-42A5-B111-D34531D95AE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