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29050"/>
        <c:axId val="46072405"/>
      </c:barChart>
      <c:catAx>
        <c:axId val="78929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72405"/>
        <c:crosses val="autoZero"/>
        <c:auto val="1"/>
        <c:lblAlgn val="ctr"/>
        <c:lblOffset val="100"/>
        <c:noMultiLvlLbl val="0"/>
      </c:catAx>
      <c:valAx>
        <c:axId val="460724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29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8938-8C59-4574-AE28-725A5D62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E46-B487-4777-A9B9-8093D674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6CA-090B-4CEA-8D28-87570E5F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0F6-C53C-4419-A39B-93004AB1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D4D0-C712-44D3-9612-80C2A51C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D62-E711-4DD0-9775-3C5AEAD6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5006-3F91-466F-8D31-32F1111B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7C5-7C8E-44E4-B650-76DD7202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09B-5BEF-418D-BB78-6533195A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EC2-0E79-45B0-B5B3-F77748EA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DA7F-D9EE-43B2-94EE-5BC59F33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A910-AE32-421F-8FF0-B1AD7AF9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18325-B2A5-499B-8821-E5BA1A1B15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