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14943"/>
        <c:axId val="68201112"/>
      </c:barChart>
      <c:catAx>
        <c:axId val="68414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01112"/>
        <c:crosses val="autoZero"/>
        <c:auto val="1"/>
        <c:lblAlgn val="ctr"/>
        <c:lblOffset val="100"/>
        <c:noMultiLvlLbl val="0"/>
      </c:catAx>
      <c:valAx>
        <c:axId val="68201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4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0F0-85BF-43EC-838A-72AFC77A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221-184F-4E55-B5B6-409EDA1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A36-F38C-4411-AB03-0F07600A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064-4609-4FF3-AFAD-F419185B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1F5-4DE0-403F-A6A9-AFB7BAC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580-EB01-44F9-83AB-F97372A3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BC6-5D60-428F-A367-9CE72D8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681-620A-431C-87E7-C991FBB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1EF-1018-4374-9370-B35A7D48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086-572B-488C-9B7E-0668865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7D2-B25F-427B-A046-47C0AA8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264-4F35-4E94-B8B0-0AFF4FD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EAABB-96EA-469B-B00D-98091E414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