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689369"/>
        <c:axId val="11902810"/>
      </c:barChart>
      <c:catAx>
        <c:axId val="416893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902810"/>
        <c:crosses val="autoZero"/>
        <c:auto val="1"/>
        <c:lblAlgn val="ctr"/>
        <c:lblOffset val="100"/>
        <c:noMultiLvlLbl val="0"/>
      </c:catAx>
      <c:valAx>
        <c:axId val="119028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6893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51FD-8FDB-45E7-B3E7-22AD23BAC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D750-B948-412B-876C-7555AE552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0832-64DE-49AC-B3F7-85B342F51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E09D-978C-445A-A655-D40CC64C1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8561-F7C5-4962-9AC8-6B29EFCEB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4B53-37C7-4D86-9E91-FEAC7E25F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F2BB-BB1E-4E64-8C4F-7A112831C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97A0-7135-43DA-BA74-F92FF4F8E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A3AF-AA81-4916-B686-555A4ADCD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9FFD-389B-4404-AA97-58C3C903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3E69-530B-469F-810D-9051EAA8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609F-0585-4A40-853F-9B5DEA04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951609-9FD7-4D2A-829A-B0D48A0D8FD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