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94545"/>
        <c:axId val="14831403"/>
      </c:barChart>
      <c:catAx>
        <c:axId val="82694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31403"/>
        <c:crosses val="autoZero"/>
        <c:auto val="1"/>
        <c:lblAlgn val="ctr"/>
        <c:lblOffset val="100"/>
        <c:noMultiLvlLbl val="0"/>
      </c:catAx>
      <c:valAx>
        <c:axId val="14831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94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48C-BB1A-4370-AA92-750690A4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50C-611C-4AFF-8F50-8621279D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9F6-0638-4629-9101-2C7FA50B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B2D-A2F1-4AB6-8A41-F8A0E6A1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787-123D-431D-BBDE-B51597DB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1ED-BF99-45D6-B324-00BD0FFB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1F6-4AF9-4F22-929D-E7418E6F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C7D-50B4-4C50-84B8-A0846AE7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A95-2EFC-431C-8C80-7F65408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304-44F6-4A72-A4F4-F6F521B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9F2-2542-4DCF-B1BF-2314079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EB1-21FB-43B8-99F2-83187BE4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0BFDD-247E-431D-AA27-50B0CD94E9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