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645605"/>
        <c:axId val="41706185"/>
      </c:barChart>
      <c:catAx>
        <c:axId val="486456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06185"/>
        <c:crosses val="autoZero"/>
        <c:auto val="1"/>
        <c:lblAlgn val="ctr"/>
        <c:lblOffset val="100"/>
        <c:noMultiLvlLbl val="0"/>
      </c:catAx>
      <c:valAx>
        <c:axId val="417061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456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85CB-3A70-4A20-8421-0A8F1196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2580-07C8-409E-97A7-3F397564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925B-5F70-4537-8246-0233FD16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946D-BE45-44E4-97AD-286958AC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42C2-1BDC-4A79-A902-4455DA84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C468-78BD-4D45-9FBE-BBC68C6F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5B1F-C8E0-448E-A7F0-E408E96E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C35E-9A3C-4BA3-B54B-463F11FC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F0AE-E66C-4F9C-924F-9B70CCFA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12FF-0A87-48DE-9335-E157ECDB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C4DB-44B9-4B95-98ED-BDAEF2E0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2639-E670-4F0E-8595-A507F620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4CEA6-D698-44C7-9FE9-9C3CE5759B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