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5033"/>
        <c:axId val="86585931"/>
      </c:barChart>
      <c:catAx>
        <c:axId val="5305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5931"/>
        <c:crosses val="autoZero"/>
        <c:auto val="1"/>
        <c:lblAlgn val="ctr"/>
        <c:lblOffset val="100"/>
        <c:noMultiLvlLbl val="0"/>
      </c:catAx>
      <c:valAx>
        <c:axId val="86585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5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283-552E-429C-B9F7-EA957E5D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0F8-46C8-41FD-B4FD-3623C8B9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882-ADF9-4754-AA34-A025C3FE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453-8129-4CDB-A2FE-A07CA105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9F1-0C1C-4875-BDB2-E1B764E0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B08-2DEE-4B9A-8D2A-7342713E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4B5-F982-47A8-9D7E-856E1BE4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6D2-9CD6-4D4D-90AB-10F5B282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5C4-153F-4997-9D5D-B8449E79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290-F986-42A6-B1AA-2FE0E99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5A8-5086-4C1E-9B37-6984580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569-190C-4632-9628-D7E95623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AA260-B745-4D07-881E-21AFB683F2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