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606541"/>
        <c:axId val="26167259"/>
      </c:barChart>
      <c:catAx>
        <c:axId val="84606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67259"/>
        <c:crosses val="autoZero"/>
        <c:auto val="1"/>
        <c:lblAlgn val="ctr"/>
        <c:lblOffset val="100"/>
        <c:noMultiLvlLbl val="0"/>
      </c:catAx>
      <c:valAx>
        <c:axId val="26167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06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302-0C0A-44A6-BC59-BAB29E40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F27-CED9-4A99-92A5-A2B8D0DF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772E-DF46-4BC6-BA4F-06A497CE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AE2-62D9-4473-B875-B7C1134F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C325-E238-4B41-9FAE-008F9EE4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943F-7A41-445D-BBCC-168DD53B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95E-6323-48C3-81E3-44BEBE20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01EC-CBC9-4760-B4FD-4276182F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D522-7FFA-4BD6-BEAC-8178A43A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EE6D-1A6D-4E67-8575-F38ADD0F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3AA-A189-46C5-AFAB-2BCC5F47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24E-3E7B-40FF-BD5A-5F473E6B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4D77F-810D-4546-86B8-294FA5406A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