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09646"/>
        <c:axId val="96010012"/>
      </c:barChart>
      <c:catAx>
        <c:axId val="83109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10012"/>
        <c:crosses val="autoZero"/>
        <c:auto val="1"/>
        <c:lblAlgn val="ctr"/>
        <c:lblOffset val="100"/>
        <c:noMultiLvlLbl val="0"/>
      </c:catAx>
      <c:valAx>
        <c:axId val="960100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09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B152-AB8F-4659-8BDB-1489CB9A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40C-7A73-41B8-9D57-C641DA24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E74-5C11-48E6-9451-368C8FF1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75C-159C-4E1B-9501-A7ED8676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8D90-292E-4CF7-8A49-16874FFE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E03-1385-4D4D-BC3C-D9DE819F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4F30-EDEE-484A-8736-642AD856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68E-0533-40CD-8D99-AC47D548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1FD-48D1-4FA2-8574-3C38B00E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9390-358C-4146-93F9-C5201E47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670-D04B-4870-B3A7-44CA7CB9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96E-B9A3-40B3-96A9-7A613126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2FF6A-11E6-4B4F-8E28-F1B6F3A9CD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