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43943"/>
        <c:axId val="74622741"/>
      </c:barChart>
      <c:catAx>
        <c:axId val="23043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22741"/>
        <c:crosses val="autoZero"/>
        <c:auto val="1"/>
        <c:lblAlgn val="ctr"/>
        <c:lblOffset val="100"/>
        <c:noMultiLvlLbl val="0"/>
      </c:catAx>
      <c:valAx>
        <c:axId val="74622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43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A10C-9C2C-4735-927B-5CABD095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383-1F21-4BFC-B0E1-6E5A2184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431-57DA-4F39-AD35-1F7CD15D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0332-7B8B-4F55-A25F-87C80806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38C-E597-46F2-A5B5-AD995AA5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DCD9-FCC6-4B74-8878-C16D10E6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DF43-FAB0-4D8C-B7BF-032D24D9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EF3-83CE-4755-B27A-17F4A61A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F378-F42F-4DC7-9C83-AF208C0E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678-C22F-43B6-9101-B5E41839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52B-5CC6-4455-A810-A6E806ED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E77-B511-4A54-910F-5E1489AE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8652C-B863-4C8D-956A-FB84778156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