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2764"/>
        <c:axId val="83101066"/>
      </c:barChart>
      <c:catAx>
        <c:axId val="4602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01066"/>
        <c:crosses val="autoZero"/>
        <c:auto val="1"/>
        <c:lblAlgn val="ctr"/>
        <c:lblOffset val="100"/>
        <c:noMultiLvlLbl val="0"/>
      </c:catAx>
      <c:valAx>
        <c:axId val="83101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2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249-FB07-47BC-8F00-062A093E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046-1852-4552-A887-0C1E471A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F39-42C1-4D22-914C-012A7A68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D8A-F66E-40FE-A5D6-8D12A334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BFE-AC6E-4F89-AE57-CD0F093F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005-F812-4250-A2CD-CC20E120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251-8170-4858-8334-5DC344E8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BE8-588A-4B23-AFD4-1CE9F0AC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F02-4F09-4845-9DC9-01EB73F3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7F1-FD18-4389-9715-1487E2DA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9E2-F037-40D9-8430-3F08D2FD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77B-A3FF-4BB9-A33F-E9628A85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24DAD-9F65-4909-9375-0B354B457A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