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53854"/>
        <c:axId val="13673591"/>
      </c:barChart>
      <c:catAx>
        <c:axId val="30553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73591"/>
        <c:crosses val="autoZero"/>
        <c:auto val="1"/>
        <c:lblAlgn val="ctr"/>
        <c:lblOffset val="100"/>
        <c:noMultiLvlLbl val="0"/>
      </c:catAx>
      <c:valAx>
        <c:axId val="13673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53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751-1B84-43BD-8C56-F20B8597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922-805C-47EC-ACD0-1AD0F0EF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B73-073D-42A4-BF0B-70EDDF8B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2C1-7725-4B8A-8688-216EFC51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B61-9B49-4A04-ACB3-C8501A07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C58-B652-42ED-9733-F391C16D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AC1-8523-4399-961F-3A30054F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2B8-0BE5-4833-95A3-9531DABD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FBB-51B3-4A4A-8509-9F4936B4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F66-6E3E-49C6-9810-11D8B97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0D8-64A2-4807-BC57-6917DD3D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0C1-1281-47EF-8D47-AC9E0CB7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9F428-A54A-4019-A778-029B50182D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