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81120"/>
        <c:axId val="52917099"/>
      </c:barChart>
      <c:catAx>
        <c:axId val="87481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17099"/>
        <c:crosses val="autoZero"/>
        <c:auto val="1"/>
        <c:lblAlgn val="ctr"/>
        <c:lblOffset val="100"/>
        <c:noMultiLvlLbl val="0"/>
      </c:catAx>
      <c:valAx>
        <c:axId val="52917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81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38A-2421-478D-8CD1-8A47DA09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6C8-8671-4B2D-A04A-2D48FCE1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850-B428-4A79-97CD-709798C3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BA4-894F-41FD-A7F1-19CDB651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A98-A8F5-4FAC-AC79-3E7A6829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ACE-8792-47C0-AB11-9AC13A97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35B-AE25-4494-9DCB-753F3CAF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848-3479-462F-8AA2-E425FB73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7A9-9BAA-4780-9442-70C0CA57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8A5-F291-4B42-9AE3-BA769760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F25-8E4B-4ACD-870F-A23C6C26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873-A51C-443F-910C-91D57DBD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C7E48-52DB-4BB0-BAEB-2E4B19387F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