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105093"/>
        <c:axId val="73810397"/>
      </c:barChart>
      <c:catAx>
        <c:axId val="391050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10397"/>
        <c:crosses val="autoZero"/>
        <c:auto val="1"/>
        <c:lblAlgn val="ctr"/>
        <c:lblOffset val="100"/>
        <c:noMultiLvlLbl val="0"/>
      </c:catAx>
      <c:valAx>
        <c:axId val="738103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050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C9CA-1CFF-44FE-AFCF-12DB8C46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55A-BC34-4EDB-B096-48D4DE37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627-45F5-4A67-9D96-B526ED4E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588B-11EF-4D7D-85F6-B3E5EEEF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83DD-EC66-409B-98B3-AD779C2F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7B11-1D71-41DB-A7D3-583C9AAE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31DF-C17E-4255-87FB-FB97E88A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D5DA-7BD9-4F02-A80F-35927704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89D-9C36-49A4-91AA-80DA6B40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1870-CDBB-4E1D-B777-260E1A1F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ECA0-64EF-4F97-9E02-60DE593D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393-940F-4091-BA17-589B87E1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A7A81-4CC4-4E49-A218-B7257E6F2E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