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44620"/>
        <c:axId val="71531446"/>
      </c:barChart>
      <c:catAx>
        <c:axId val="972446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31446"/>
        <c:crosses val="autoZero"/>
        <c:auto val="1"/>
        <c:lblAlgn val="ctr"/>
        <c:lblOffset val="100"/>
        <c:noMultiLvlLbl val="0"/>
      </c:catAx>
      <c:valAx>
        <c:axId val="71531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446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C82-91CC-46A4-A6B8-5BD614D7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31D-C9D1-42F8-A021-C591AAF6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65B-E6B7-4CBA-A6A5-8F685B9D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77B-DEA3-4101-86E9-D38CBCD3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F2A-A517-4338-A3A6-7CB7688C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68B-89C8-4670-A187-899C0E1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8FE-9E47-4A68-9375-9896539D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632-E69B-45B0-9109-756C11CB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895-78E4-408D-BFB0-45258866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A08-DF73-4E89-A736-1E36B1EE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71E-25B4-4BF5-A53B-75DB65A4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4DE-59B9-47C7-A4C0-C1F297B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81E8A-5D9D-4902-BF16-F69666EF15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