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102082"/>
        <c:axId val="56344479"/>
      </c:barChart>
      <c:catAx>
        <c:axId val="731020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344479"/>
        <c:crosses val="autoZero"/>
        <c:auto val="1"/>
        <c:lblAlgn val="ctr"/>
        <c:lblOffset val="100"/>
        <c:noMultiLvlLbl val="0"/>
      </c:catAx>
      <c:valAx>
        <c:axId val="563444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1020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0B89-BA86-4831-9A9C-D8B6ACF87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E92B-07CA-4601-8DF2-E19E1547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898E-5446-41BA-8E22-2AD96E61E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48F8-FBCE-4C33-AA89-B005B60F0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22E7-68CB-45A7-A427-B4EFA47B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E99D-1D0A-4763-9899-4048B36B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BD72-7E04-4A74-9A49-C12E753A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2781-AB3B-4546-B15A-5E95E7AA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1F7E-184B-4841-B2E9-E5C610C5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B5B5-029B-4754-97B7-E8DE701D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476B-2879-42D2-A563-788C7C89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60B5-8056-42B0-982A-0E1ACB4A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1B1274-EDAB-4238-8A8B-E764081B7E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