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882106"/>
        <c:axId val="1393311"/>
      </c:barChart>
      <c:catAx>
        <c:axId val="398821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3311"/>
        <c:crosses val="autoZero"/>
        <c:auto val="1"/>
        <c:lblAlgn val="ctr"/>
        <c:lblOffset val="100"/>
        <c:noMultiLvlLbl val="0"/>
      </c:catAx>
      <c:valAx>
        <c:axId val="13933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821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1CCE-96C2-44C1-8213-E02ABCCF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0D0E-FCA1-487A-B3AB-2D156666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23FE-924D-49CB-BEDA-4528BC237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ACD0-CB08-4263-8B12-94CA8A5F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09E0-1B04-4A80-A4A2-71C54A45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A624-084F-4916-99BA-07A77EFA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4AE8-BF87-4985-BD3E-C93904AD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8CEF-D6E5-4D26-A27E-A304312B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4060-8DA5-4E14-A802-CE36D0F7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0EA0-CF80-44C1-A7A8-7F6B5646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DFB2-E6BE-45DB-B69A-415D9C7A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B3F7-1D33-43A7-AA3A-58DA59CA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E1925-DA19-4202-B8A0-FC763CCFFD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