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0241"/>
        <c:axId val="57422807"/>
      </c:barChart>
      <c:catAx>
        <c:axId val="8950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22807"/>
        <c:crosses val="autoZero"/>
        <c:auto val="1"/>
        <c:lblAlgn val="ctr"/>
        <c:lblOffset val="100"/>
        <c:noMultiLvlLbl val="0"/>
      </c:catAx>
      <c:valAx>
        <c:axId val="57422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974-AE29-473A-B63E-D6F21905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589-3BC3-4B31-9AE6-1A675C8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ACE-01EC-423E-A79B-EEA00F18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719-D741-490A-8C3C-8A227A1F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202-004F-4463-9127-2F4DDEAB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6BB-6EE1-4AB9-9FF8-B4B1E38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1F7-7CCD-4462-979B-35A6EB1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15A-F157-4DD8-8FFE-58BB45B8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A7C-A7B7-4A7E-BAFF-345672D7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388-E8CB-43E0-8E43-63D08720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84B-AFE6-43AA-B7EF-E0AF920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03F-0E62-4341-B7DF-03FBCB2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93A55-CEDF-493C-92D1-563B1D634D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